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676-4DBD-4C92-82B0-705CC83E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DFD-A7D5-47AD-88B7-ABF40877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0B2-3793-4B2A-AFC2-DE6F3239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65B-7C65-4AA4-99B8-DD058102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72CD-E1F6-492B-A179-C22A24B6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4B7B-21DC-425F-8010-7638F7C3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085B-B365-42CF-92BF-E3C48A20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4655-1C1F-45A6-B75C-DD69E08B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08FB-FD7E-4224-94CF-DB40E3B2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980D-B89B-4D7F-BA9E-EEFC1524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65BF-FEFF-4C4C-B888-52465910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972-0E12-41C7-BE77-A0442B6B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7394-EAED-461F-BFFE-ECCEFE15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B6B8-A5E9-4566-9F7D-15B7D9E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09C8-04D8-4D36-8385-7B42ADCB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29A6-4E6C-4F0E-A35A-73530400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BD51-0AA1-4893-9DF3-8BD7FBB7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9CD8-0974-458B-A84A-DAC97075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11E1D-7E28-415E-87B6-FA350D0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DCF1-74F0-477E-BD2D-DB144F18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5F0A-9FA3-4AA0-AAFB-99D441EE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6368-792C-49E3-B273-6F9E6122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C01-46C5-47EB-96E8-D04258B8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AC32-8E67-4237-A467-5106F5CC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ABAC-198B-4553-B25E-B4E2BDA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7051-F6E4-4CBB-BA01-31FAA259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2960-DAB0-40BB-A1B4-F9450B2F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4316-6EA1-40B7-AF9B-1E6D9901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8CF5-3327-4955-9A21-4F192F81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FC5E-85E1-40A2-94D2-57682272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A4E6C-1CB8-4E62-8CC1-C3316129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090F-7D87-4D2F-B648-A741706C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03AC2-2C0C-49FB-8096-217C4048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56C-B8A3-4D99-B180-298D46DC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13031-1723-4595-ACF7-90666E73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2246C-7CD4-41F9-93AF-DF07B1FB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06B84-08FA-4C1E-B980-6F4EF7B0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1FE1-0DAD-4F8A-AB1F-663CF95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3AE64-5558-4EB4-9251-C10185E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6DF0-9C27-4BBB-BEAB-0F8D4147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E011-3031-45F4-97F1-E6C5C9E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75B22-12E4-4061-B594-33922732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FE57-4B7D-4BA4-B26E-6974276B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FCA1-1BB2-4291-A0AF-77F8375F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806-705B-4C55-B306-504A559A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4469C-BA50-4552-8AF4-78DA9BF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C8DC8-2673-436B-B27C-6CB03CAB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C0EEC-2F83-4467-935A-F83B3E07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85A7-23FF-4D0A-BA1C-2D808204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3747-7CAA-40A6-A0EF-F9F59A19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3493A-4110-4BE3-8DF6-F7BCEACA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7F5C-2DFD-4033-A45C-DE1310A5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9B8C6-C72C-4F23-8576-AA56697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B02CD-2985-4666-8466-CBA89035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E1B3-05D8-4E83-8577-368E27C8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0A0-7D68-45DB-8683-57B56E7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43D9-D7F7-407D-BD15-9C78C29E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D61-7C3E-46C5-A7C6-B0F2F77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F7D-2E34-4016-B2E2-85E3A125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9F5-8184-4A35-A3CA-F22C5B3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FA60-7A05-44E6-88B0-D05C1326B3D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F6F0-0F75-41DD-92EB-6B4217972D0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1014-A8B2-432B-AC4F-5840AC22C18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4BCA-B687-4B79-9CED-966E7550C099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BF97-DEAC-4A57-8387-BF56D4BCB38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Opening Checklist on the Website for a Detail 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Basics of Opening a Hote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030a0"/>
                </a:solidFill>
                <a:latin typeface="Verdana"/>
              </a:rPr>
              <a:t>The General Manager(GM) or </a:t>
            </a:r>
            <a:br>
              <a:rPr sz="2900"/>
            </a:br>
            <a:r>
              <a:rPr b="1" lang="en-US" sz="2900" spc="-1" strike="noStrike">
                <a:solidFill>
                  <a:srgbClr val="7030a0"/>
                </a:solidFill>
                <a:latin typeface="Verdana"/>
              </a:rPr>
              <a:t>Operations Project Manager (OPM) </a:t>
            </a:r>
            <a:r>
              <a:rPr b="0" lang="en-US" sz="2900" spc="-1" strike="noStrike">
                <a:solidFill>
                  <a:srgbClr val="7030a0"/>
                </a:solidFill>
                <a:latin typeface="Verdana"/>
              </a:rPr>
              <a:t>should 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the blueprints and specifications for the entire buil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ist in creation of model ro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pre-opening staff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and manage pre-opening 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supplies and equipment 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see the purchase, delivery and installation of supplies and equi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Blueprints</a:t>
            </a: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92888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ensure good flow for guests, staff and go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der the loca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 p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llhop bag storage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keeper’s clos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urants and cafes / kitche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Pre-Opening Staff Pla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w up an organization chart with all pos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w up spreadsheet consisting o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nus and allow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bor costs 4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taken from pre-opening staff pl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les and marketing efforts 4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dvertising and promotion, contracts, public relations, and travelling to see client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scellaneous 2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office space before moving, utilities, recruitment and selection costs, licenses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Pre-Opening Budge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0" y="160020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$8000 to $10000 per room for 4 or 5 star hot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exceed 2500 items (more for full service resort, less for in city business hot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 and lobby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room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and beverage (F&amp;B)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nquet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tchen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ve office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 uni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Operational Supplies and Equipment</a:t>
            </a: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4:13:32Z</dcterms:created>
  <dc:creator>robert</dc:creator>
  <dc:description/>
  <dc:language>en-US</dc:language>
  <cp:lastModifiedBy>robert</cp:lastModifiedBy>
  <dcterms:modified xsi:type="dcterms:W3CDTF">2011-04-14T05:46:07Z</dcterms:modified>
  <cp:revision>5</cp:revision>
  <dc:subject/>
  <dc:title>The Basics of Opening a Hotel</dc:title>
</cp:coreProperties>
</file>